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2382-A10B-4A8B-97CE-AF925C80B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B361-41B3-44A2-92FA-AB1919131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4F85-1EF8-4255-816B-054415132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31BA-BF4C-491C-BAA9-60AB28339B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978B-4678-4B9D-BD2B-B963FBED8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977E-AB82-4729-A351-F4F7D938E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73B1-8095-4FE0-8846-FEBE6DE84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703C-6278-4C80-A9B8-8544BEF4C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5E21-3FE0-42EC-BCE9-3378DA07D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76B5-0B10-4D59-ADDC-FCF4B05CE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AC6B-DC3C-47D4-A63D-F5EE211CA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3B07-38E9-4F12-AE8A-F1889F435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DFC03F-69E9-4DED-AC48-DEDB566B6DF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rel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QUÉ ES LA CEFALIZ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Qué es la cefaliz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7"/>
          <p:cNvSpPr/>
          <p:nvPr/>
        </p:nvSpPr>
        <p:spPr>
          <a:xfrm>
            <a:off x="900000" y="1557360"/>
            <a:ext cx="763272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 la diferenciación de un extremo cefálico o cab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a cabeza acumula gran parte de los órganos sensoriales (ojos, quimiorreceptores, oído..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suele incluir la boca, puesto que gran parte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tividad del animal está dirigida a conseguir al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ef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Qué es la cefaliz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7"/>
          <p:cNvSpPr/>
          <p:nvPr/>
        </p:nvSpPr>
        <p:spPr>
          <a:xfrm>
            <a:off x="82692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stintos grados de cef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249640" cy="241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435640" y="3860640"/>
            <a:ext cx="342576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4"/>
          <a:stretch/>
        </p:blipFill>
        <p:spPr>
          <a:xfrm>
            <a:off x="250920" y="436572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755640" y="1341360"/>
            <a:ext cx="80643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animales como las esponjas, los pólipos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medusas y las estrellas de mar carecen de cab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 como los anélidos y las planarias tienen una cierta cefalización, solo con leves especializaciones en su extremo anteri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 animales como artrópodos o vertebrados muestran una cefalización muy marcada, con una cabeza muy especializ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general se observa una tendencia evolutiva hacia la cefal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35:19Z</dcterms:modified>
  <cp:revision>8</cp:revision>
  <dc:subject/>
  <dc:title>Presentación de PowerPoint</dc:title>
</cp:coreProperties>
</file>